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AE7-D7ED-49DF-800F-9257FF55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4A9D-1523-42B8-B783-85CEE17F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846-4526-4CD7-AC53-ED0C1E8B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380-4F0A-4633-A85E-3848E229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EB5-46BB-425F-A34C-A1C402F5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0367-67CC-4826-8E4A-DB3CCB65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69D-0FC7-486B-A078-87601441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C64-FCEA-47F7-B843-72E03F8C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6D40-094F-400F-B73C-F5DC169E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A62-DF4D-49BC-9A6D-ED83BCEB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D79-3A83-447E-8F2F-5AA22612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563-F209-4CAE-9760-EDCA54E8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E1FE-11B5-48A7-9E5C-DF36F8F10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5.pn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-286200"/>
            <a:ext cx="81439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一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0" y="356760"/>
            <a:ext cx="2286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星期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" descr="http://pic1.nipic.com/2008-10-17/200810171925638_2.jpg"/>
          <p:cNvPicPr/>
          <p:nvPr/>
        </p:nvPicPr>
        <p:blipFill>
          <a:blip r:embed="rId1"/>
          <a:stretch/>
        </p:blipFill>
        <p:spPr>
          <a:xfrm>
            <a:off x="785880" y="1643040"/>
            <a:ext cx="1785960" cy="2678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pic.nipic.com/2007-06-13/2007613121950805_2.jpg"/>
          <p:cNvPicPr/>
          <p:nvPr/>
        </p:nvPicPr>
        <p:blipFill>
          <a:blip r:embed="rId2"/>
          <a:stretch/>
        </p:blipFill>
        <p:spPr>
          <a:xfrm>
            <a:off x="3071880" y="1643040"/>
            <a:ext cx="2428920" cy="2868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Kea010806_004[1].jpg"/>
          <p:cNvPicPr/>
          <p:nvPr/>
        </p:nvPicPr>
        <p:blipFill>
          <a:blip r:embed="rId3"/>
          <a:stretch/>
        </p:blipFill>
        <p:spPr>
          <a:xfrm>
            <a:off x="6072120" y="2000160"/>
            <a:ext cx="2357640" cy="176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full stomach 022510.jpg"/>
          <p:cNvPicPr/>
          <p:nvPr/>
        </p:nvPicPr>
        <p:blipFill>
          <a:blip r:embed="rId4"/>
          <a:stretch/>
        </p:blipFill>
        <p:spPr>
          <a:xfrm>
            <a:off x="3500280" y="4500720"/>
            <a:ext cx="1936800" cy="2077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Maggie\Desktop\跑步.jpg"/>
          <p:cNvPicPr/>
          <p:nvPr/>
        </p:nvPicPr>
        <p:blipFill>
          <a:blip r:embed="rId5"/>
          <a:stretch/>
        </p:blipFill>
        <p:spPr>
          <a:xfrm>
            <a:off x="6215040" y="4143240"/>
            <a:ext cx="1857240" cy="216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Maggie\Desktop\慢走得.jpg"/>
          <p:cNvPicPr/>
          <p:nvPr/>
        </p:nvPicPr>
        <p:blipFill>
          <a:blip r:embed="rId6"/>
          <a:stretch/>
        </p:blipFill>
        <p:spPr>
          <a:xfrm>
            <a:off x="857160" y="4572000"/>
            <a:ext cx="1857600" cy="1751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9"/>
          <p:cNvSpPr/>
          <p:nvPr/>
        </p:nvSpPr>
        <p:spPr>
          <a:xfrm flipH="1">
            <a:off x="1000080" y="10717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5147280" y="4500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857160" y="30718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打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214880" y="3500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打電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6215040" y="37861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睡得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7096320" y="62150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跑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跑步，兩個人</a:t>
            </a:r>
            <a:r>
              <a:rPr b="1" lang="zh-CN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在</a:t>
            </a: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跑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C:\Users\Maggie\Desktop\跑步.jpg"/>
          <p:cNvPicPr/>
          <p:nvPr/>
        </p:nvPicPr>
        <p:blipFill>
          <a:blip r:embed="rId1"/>
          <a:stretch/>
        </p:blipFill>
        <p:spPr>
          <a:xfrm>
            <a:off x="428760" y="2143080"/>
            <a:ext cx="3571920" cy="2995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walking 020110.jpg"/>
          <p:cNvPicPr/>
          <p:nvPr/>
        </p:nvPicPr>
        <p:blipFill>
          <a:blip r:embed="rId2"/>
          <a:stretch/>
        </p:blipFill>
        <p:spPr>
          <a:xfrm>
            <a:off x="6143760" y="3071880"/>
            <a:ext cx="25239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85716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青蛙和兔子，誰跳</a:t>
            </a:r>
            <a:r>
              <a:rPr b="1" lang="zh-TW" sz="5400" spc="-1" strike="noStrike">
                <a:solidFill>
                  <a:srgbClr val="000000"/>
                </a:solidFill>
                <a:latin typeface="文鼎標楷下通用拼音C1"/>
                <a:ea typeface="文鼎標楷下通用拼音C1"/>
              </a:rPr>
              <a:t>得</a:t>
            </a: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快</a:t>
            </a:r>
            <a:r>
              <a:rPr b="1" lang="en-US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2786040"/>
            <a:ext cx="6400800" cy="28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0" name="Picture 2" descr="C:\Users\Maggie\Desktop\賽跑"/>
          <p:cNvPicPr/>
          <p:nvPr/>
        </p:nvPicPr>
        <p:blipFill>
          <a:blip r:embed="rId1"/>
          <a:stretch/>
        </p:blipFill>
        <p:spPr>
          <a:xfrm>
            <a:off x="928800" y="2286000"/>
            <a:ext cx="707220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535788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我</a:t>
            </a:r>
            <a:r>
              <a:rPr b="1" lang="zh-CN" sz="4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弟弟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走路走</a:t>
            </a:r>
            <a:r>
              <a:rPr b="1" lang="zh-TW" sz="4800" spc="-1" strike="noStrike">
                <a:solidFill>
                  <a:srgbClr val="000000"/>
                </a:solidFill>
                <a:latin typeface="文鼎標楷下漢語拼音C1"/>
                <a:ea typeface="文鼎標楷下漢語拼音C1"/>
              </a:rPr>
              <a:t>得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慢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C:\Users\Maggie\Desktop\慢走得.jpg"/>
          <p:cNvPicPr/>
          <p:nvPr/>
        </p:nvPicPr>
        <p:blipFill>
          <a:blip r:embed="rId1"/>
          <a:stretch/>
        </p:blipFill>
        <p:spPr>
          <a:xfrm>
            <a:off x="571680" y="2714760"/>
            <a:ext cx="3643200" cy="34336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 flipH="1">
            <a:off x="6215040" y="1500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dog smell 020110.jpg"/>
          <p:cNvPicPr/>
          <p:nvPr/>
        </p:nvPicPr>
        <p:blipFill>
          <a:blip r:embed="rId2"/>
          <a:stretch/>
        </p:blipFill>
        <p:spPr>
          <a:xfrm>
            <a:off x="5000760" y="2571840"/>
            <a:ext cx="1876320" cy="139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pig cartoon 012910.jpg"/>
          <p:cNvPicPr/>
          <p:nvPr/>
        </p:nvPicPr>
        <p:blipFill>
          <a:blip r:embed="rId3"/>
          <a:stretch/>
        </p:blipFill>
        <p:spPr>
          <a:xfrm>
            <a:off x="4643280" y="4786200"/>
            <a:ext cx="1785960" cy="1325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fat cat 011110.jpg"/>
          <p:cNvPicPr/>
          <p:nvPr/>
        </p:nvPicPr>
        <p:blipFill>
          <a:blip r:embed="rId4"/>
          <a:stretch/>
        </p:blipFill>
        <p:spPr>
          <a:xfrm>
            <a:off x="6894360" y="4714920"/>
            <a:ext cx="1468440" cy="1714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old man.jpg"/>
          <p:cNvPicPr/>
          <p:nvPr/>
        </p:nvPicPr>
        <p:blipFill>
          <a:blip r:embed="rId5"/>
          <a:stretch/>
        </p:blipFill>
        <p:spPr>
          <a:xfrm>
            <a:off x="7031160" y="2286000"/>
            <a:ext cx="1450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你吃</a:t>
            </a:r>
            <a:r>
              <a:rPr b="1" lang="zh-TW" sz="6600" spc="-1" strike="noStrike">
                <a:solidFill>
                  <a:srgbClr val="000000"/>
                </a:solidFill>
                <a:latin typeface="文鼎標楷下通用拼音C1"/>
                <a:ea typeface="文鼎標楷下通用拼音C1"/>
              </a:rPr>
              <a:t>得</a:t>
            </a: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真不少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E:\圖片檔\中式早餐.jpg"/>
          <p:cNvPicPr/>
          <p:nvPr/>
        </p:nvPicPr>
        <p:blipFill>
          <a:blip r:embed="rId1"/>
          <a:stretch/>
        </p:blipFill>
        <p:spPr>
          <a:xfrm>
            <a:off x="357120" y="2786040"/>
            <a:ext cx="3643560" cy="29289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E:\圖片檔\西式早餐.jpg"/>
          <p:cNvPicPr/>
          <p:nvPr/>
        </p:nvPicPr>
        <p:blipFill>
          <a:blip r:embed="rId2"/>
          <a:stretch/>
        </p:blipFill>
        <p:spPr>
          <a:xfrm>
            <a:off x="5500800" y="2786040"/>
            <a:ext cx="31431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71560" y="214200"/>
            <a:ext cx="178596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打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pic.nipic.com/2008-05-15/2008515185040376_2.jpg"/>
          <p:cNvPicPr/>
          <p:nvPr/>
        </p:nvPicPr>
        <p:blipFill>
          <a:blip r:embed="rId1"/>
          <a:stretch/>
        </p:blipFill>
        <p:spPr>
          <a:xfrm>
            <a:off x="4857840" y="2500200"/>
            <a:ext cx="2857320" cy="3929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" descr="http://pic1.nipic.com/2008-10-17/200810171925638_2.jpg"/>
          <p:cNvPicPr/>
          <p:nvPr/>
        </p:nvPicPr>
        <p:blipFill>
          <a:blip r:embed="rId2"/>
          <a:stretch/>
        </p:blipFill>
        <p:spPr>
          <a:xfrm>
            <a:off x="857160" y="2357280"/>
            <a:ext cx="2857680" cy="42865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714240" y="1071720"/>
            <a:ext cx="221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打</a:t>
            </a: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490800" y="1071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打</a:t>
            </a: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 flipH="1">
            <a:off x="500040" y="2858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://pic.nipic.com/2007-06-13/2007613121950805_2.jpg"/>
          <p:cNvPicPr/>
          <p:nvPr/>
        </p:nvPicPr>
        <p:blipFill>
          <a:blip r:embed="rId1"/>
          <a:stretch/>
        </p:blipFill>
        <p:spPr>
          <a:xfrm>
            <a:off x="714240" y="2428920"/>
            <a:ext cx="3267360" cy="3857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http://pic1.nipic.com/2008-10-29/200810296453599_2.jpg"/>
          <p:cNvPicPr/>
          <p:nvPr/>
        </p:nvPicPr>
        <p:blipFill>
          <a:blip r:embed="rId2"/>
          <a:stretch/>
        </p:blipFill>
        <p:spPr>
          <a:xfrm>
            <a:off x="4714920" y="2643120"/>
            <a:ext cx="3619440" cy="3357720"/>
          </a:xfrm>
          <a:prstGeom prst="rect">
            <a:avLst/>
          </a:prstGeom>
          <a:ln w="0">
            <a:noFill/>
          </a:ln>
        </p:spPr>
      </p:pic>
      <p:sp>
        <p:nvSpPr>
          <p:cNvPr id="63" name="向下箭號 5"/>
          <p:cNvSpPr/>
          <p:nvPr/>
        </p:nvSpPr>
        <p:spPr>
          <a:xfrm>
            <a:off x="2286000" y="1714680"/>
            <a:ext cx="428760" cy="9284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向下箭號 6"/>
          <p:cNvSpPr/>
          <p:nvPr/>
        </p:nvSpPr>
        <p:spPr>
          <a:xfrm>
            <a:off x="6929280" y="2000160"/>
            <a:ext cx="428760" cy="10000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8064a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1071720" y="285840"/>
            <a:ext cx="378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打</a:t>
            </a: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電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306120" y="642960"/>
            <a:ext cx="1689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打</a:t>
            </a: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電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 flipH="1">
            <a:off x="3714840" y="18572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600" y="85680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小</a:t>
            </a:r>
            <a:r>
              <a:rPr b="1" lang="zh-CN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妹妹</a:t>
            </a: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睡</a:t>
            </a:r>
            <a:r>
              <a:rPr b="1" lang="zh-TW" sz="54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得</a:t>
            </a: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甜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pic.nipic.com/2007-07-15/200771521555113_2.jpg"/>
          <p:cNvPicPr/>
          <p:nvPr/>
        </p:nvPicPr>
        <p:blipFill>
          <a:blip r:embed="rId1"/>
          <a:stretch/>
        </p:blipFill>
        <p:spPr>
          <a:xfrm>
            <a:off x="0" y="2857680"/>
            <a:ext cx="4000680" cy="3500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Kea010806_004[1].jpg"/>
          <p:cNvPicPr/>
          <p:nvPr/>
        </p:nvPicPr>
        <p:blipFill>
          <a:blip r:embed="rId2"/>
          <a:stretch/>
        </p:blipFill>
        <p:spPr>
          <a:xfrm>
            <a:off x="3786120" y="292896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 flipH="1">
            <a:off x="3714840" y="18572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龍貓TO~1"/>
          <p:cNvPicPr/>
          <p:nvPr/>
        </p:nvPicPr>
        <p:blipFill>
          <a:blip r:embed="rId1"/>
          <a:stretch/>
        </p:blipFill>
        <p:spPr>
          <a:xfrm>
            <a:off x="928800" y="2857680"/>
            <a:ext cx="3328920" cy="332712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3"/>
          <p:cNvGrpSpPr/>
          <p:nvPr/>
        </p:nvGrpSpPr>
        <p:grpSpPr>
          <a:xfrm>
            <a:off x="-213480" y="1643400"/>
            <a:ext cx="2659320" cy="2651400"/>
            <a:chOff x="-213480" y="1643400"/>
            <a:chExt cx="2659320" cy="2651400"/>
          </a:xfrm>
        </p:grpSpPr>
        <p:sp>
          <p:nvSpPr>
            <p:cNvPr id="74" name="AutoShape 4"/>
            <p:cNvSpPr/>
            <p:nvPr/>
          </p:nvSpPr>
          <p:spPr>
            <a:xfrm rot="18709800">
              <a:off x="200520" y="2003760"/>
              <a:ext cx="1830600" cy="193032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5"/>
            <p:cNvGrpSpPr/>
            <p:nvPr/>
          </p:nvGrpSpPr>
          <p:grpSpPr>
            <a:xfrm>
              <a:off x="291600" y="2119680"/>
              <a:ext cx="1665720" cy="1671120"/>
              <a:chOff x="291600" y="2119680"/>
              <a:chExt cx="1665720" cy="1671120"/>
            </a:xfrm>
          </p:grpSpPr>
          <p:pic>
            <p:nvPicPr>
              <p:cNvPr id="76" name="Picture 6" descr="1244448560kkze5"/>
              <p:cNvPicPr/>
              <p:nvPr/>
            </p:nvPicPr>
            <p:blipFill>
              <a:blip r:embed="rId2"/>
              <a:stretch/>
            </p:blipFill>
            <p:spPr>
              <a:xfrm rot="18709800">
                <a:off x="516960" y="2381040"/>
                <a:ext cx="1215000" cy="1148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7" name="Group 7"/>
              <p:cNvGrpSpPr/>
              <p:nvPr/>
            </p:nvGrpSpPr>
            <p:grpSpPr>
              <a:xfrm>
                <a:off x="672480" y="2487240"/>
                <a:ext cx="986400" cy="940320"/>
                <a:chOff x="672480" y="2487240"/>
                <a:chExt cx="986400" cy="940320"/>
              </a:xfrm>
            </p:grpSpPr>
            <p:cxnSp>
              <p:nvCxnSpPr>
                <p:cNvPr id="78" name="AutoShape 8"/>
                <p:cNvCxnSpPr/>
                <p:nvPr/>
              </p:nvCxnSpPr>
              <p:spPr>
                <a:xfrm>
                  <a:off x="1055520" y="2487240"/>
                  <a:ext cx="185400" cy="940680"/>
                </a:xfrm>
                <a:prstGeom prst="straightConnector1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79" name="AutoShape 9"/>
                <p:cNvCxnSpPr/>
                <p:nvPr/>
              </p:nvCxnSpPr>
              <p:spPr>
                <a:xfrm flipV="1">
                  <a:off x="672480" y="2903040"/>
                  <a:ext cx="986760" cy="69840"/>
                </a:xfrm>
                <a:prstGeom prst="straightConnector1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</p:cxnSp>
          </p:grpSp>
        </p:grpSp>
      </p:grpSp>
      <p:sp>
        <p:nvSpPr>
          <p:cNvPr id="80" name="文字方塊 11"/>
          <p:cNvSpPr/>
          <p:nvPr/>
        </p:nvSpPr>
        <p:spPr>
          <a:xfrm>
            <a:off x="0" y="357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  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我吃飽了，我</a:t>
            </a:r>
            <a:r>
              <a:rPr b="1" lang="zh-TW" sz="60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很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飽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full stomach 022510.jpg"/>
          <p:cNvPicPr/>
          <p:nvPr/>
        </p:nvPicPr>
        <p:blipFill>
          <a:blip r:embed="rId3"/>
          <a:stretch/>
        </p:blipFill>
        <p:spPr>
          <a:xfrm>
            <a:off x="5357880" y="2071800"/>
            <a:ext cx="3222720" cy="34574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1"/>
          <p:cNvSpPr/>
          <p:nvPr/>
        </p:nvSpPr>
        <p:spPr>
          <a:xfrm flipH="1">
            <a:off x="3714840" y="18572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421488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他</a:t>
            </a:r>
            <a:r>
              <a:rPr b="1" lang="zh-TW" sz="60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在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看書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4" descr="scan0001 - Copy (2).jpg"/>
          <p:cNvPicPr/>
          <p:nvPr/>
        </p:nvPicPr>
        <p:blipFill>
          <a:blip r:embed="rId1"/>
          <a:stretch/>
        </p:blipFill>
        <p:spPr>
          <a:xfrm>
            <a:off x="4143240" y="3571920"/>
            <a:ext cx="3668760" cy="2500200"/>
          </a:xfrm>
          <a:prstGeom prst="rect">
            <a:avLst/>
          </a:prstGeom>
          <a:ln w="0">
            <a:noFill/>
          </a:ln>
        </p:spPr>
      </p:pic>
      <p:sp>
        <p:nvSpPr>
          <p:cNvPr id="85" name="文字方塊 5"/>
          <p:cNvSpPr/>
          <p:nvPr/>
        </p:nvSpPr>
        <p:spPr>
          <a:xfrm>
            <a:off x="4357800" y="214200"/>
            <a:ext cx="478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她</a:t>
            </a:r>
            <a:r>
              <a:rPr b="1" lang="zh-TW" sz="60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不在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念書，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她</a:t>
            </a:r>
            <a:r>
              <a:rPr b="1" lang="zh-TW" sz="6000" spc="-1" strike="noStrike">
                <a:solidFill>
                  <a:srgbClr val="1f497d"/>
                </a:solidFill>
                <a:latin typeface="文鼎標楷下通用拼音C1"/>
                <a:ea typeface="文鼎標楷下通用拼音C1"/>
              </a:rPr>
              <a:t>在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寫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向下箭號 6"/>
          <p:cNvSpPr/>
          <p:nvPr/>
        </p:nvSpPr>
        <p:spPr>
          <a:xfrm rot="2160000">
            <a:off x="5936760" y="2964960"/>
            <a:ext cx="596880" cy="7066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cy3.skhcyss.edu.hk/~lib/reading%20pic/read%20pic1.bmp"/>
          <p:cNvPicPr/>
          <p:nvPr/>
        </p:nvPicPr>
        <p:blipFill>
          <a:blip r:embed="rId2"/>
          <a:stretch/>
        </p:blipFill>
        <p:spPr>
          <a:xfrm>
            <a:off x="76320" y="3071880"/>
            <a:ext cx="3924360" cy="3038400"/>
          </a:xfrm>
          <a:prstGeom prst="rect">
            <a:avLst/>
          </a:prstGeom>
          <a:ln w="0">
            <a:noFill/>
          </a:ln>
        </p:spPr>
      </p:pic>
      <p:sp>
        <p:nvSpPr>
          <p:cNvPr id="88" name="向下箭號 7"/>
          <p:cNvSpPr/>
          <p:nvPr/>
        </p:nvSpPr>
        <p:spPr>
          <a:xfrm>
            <a:off x="1846440" y="1571760"/>
            <a:ext cx="510840" cy="10000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scan0001 - Copy.jpg"/>
          <p:cNvPicPr/>
          <p:nvPr/>
        </p:nvPicPr>
        <p:blipFill>
          <a:blip r:embed="rId1"/>
          <a:stretch/>
        </p:blipFill>
        <p:spPr>
          <a:xfrm>
            <a:off x="3643200" y="2643120"/>
            <a:ext cx="5072040" cy="3608280"/>
          </a:xfrm>
          <a:prstGeom prst="rect">
            <a:avLst/>
          </a:prstGeom>
          <a:ln w="0">
            <a:noFill/>
          </a:ln>
        </p:spPr>
      </p:pic>
      <p:sp>
        <p:nvSpPr>
          <p:cNvPr id="90" name="向下箭號 4"/>
          <p:cNvSpPr/>
          <p:nvPr/>
        </p:nvSpPr>
        <p:spPr>
          <a:xfrm>
            <a:off x="5857920" y="1285920"/>
            <a:ext cx="571320" cy="12142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字方塊 6"/>
          <p:cNvSpPr/>
          <p:nvPr/>
        </p:nvSpPr>
        <p:spPr>
          <a:xfrm>
            <a:off x="4286160" y="21420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他們在唱歌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向右箭號 7"/>
          <p:cNvSpPr/>
          <p:nvPr/>
        </p:nvSpPr>
        <p:spPr>
          <a:xfrm rot="1945200">
            <a:off x="2426760" y="3939840"/>
            <a:ext cx="1500480" cy="4287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字方塊 8"/>
          <p:cNvSpPr/>
          <p:nvPr/>
        </p:nvSpPr>
        <p:spPr>
          <a:xfrm>
            <a:off x="285840" y="1000080"/>
            <a:ext cx="371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他不在唱歌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他在跳舞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</a:t>
            </a: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甜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42600" y="1928520"/>
            <a:ext cx="7429320" cy="37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西瓜真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www.17001.cn/upload/2008_03/08030519548624.jpg"/>
          <p:cNvPicPr/>
          <p:nvPr/>
        </p:nvPicPr>
        <p:blipFill>
          <a:blip r:embed="rId1"/>
          <a:stretch/>
        </p:blipFill>
        <p:spPr>
          <a:xfrm>
            <a:off x="2571840" y="2143080"/>
            <a:ext cx="4143240" cy="3143160"/>
          </a:xfrm>
          <a:prstGeom prst="rect">
            <a:avLst/>
          </a:prstGeom>
          <a:ln w="0">
            <a:noFill/>
          </a:ln>
        </p:spPr>
      </p:pic>
      <p:sp>
        <p:nvSpPr>
          <p:cNvPr id="97" name="向右箭號 5"/>
          <p:cNvSpPr/>
          <p:nvPr/>
        </p:nvSpPr>
        <p:spPr>
          <a:xfrm>
            <a:off x="1500120" y="3643200"/>
            <a:ext cx="1500120" cy="28584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向下箭號 6"/>
          <p:cNvSpPr/>
          <p:nvPr/>
        </p:nvSpPr>
        <p:spPr>
          <a:xfrm rot="1730400">
            <a:off x="4889520" y="1676160"/>
            <a:ext cx="357120" cy="200016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字方塊 7"/>
          <p:cNvSpPr/>
          <p:nvPr/>
        </p:nvSpPr>
        <p:spPr>
          <a:xfrm rot="16200000">
            <a:off x="5807520" y="550080"/>
            <a:ext cx="13993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梨子不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向右箭號 10"/>
          <p:cNvSpPr/>
          <p:nvPr/>
        </p:nvSpPr>
        <p:spPr>
          <a:xfrm flipH="1">
            <a:off x="6500880" y="4071960"/>
            <a:ext cx="100008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副標題 2"/>
          <p:cNvSpPr/>
          <p:nvPr/>
        </p:nvSpPr>
        <p:spPr>
          <a:xfrm>
            <a:off x="214200" y="1857240"/>
            <a:ext cx="7429680" cy="37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字方塊 21"/>
          <p:cNvSpPr/>
          <p:nvPr/>
        </p:nvSpPr>
        <p:spPr>
          <a:xfrm>
            <a:off x="6929280" y="471492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葡萄真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向下箭號 22"/>
          <p:cNvSpPr/>
          <p:nvPr/>
        </p:nvSpPr>
        <p:spPr>
          <a:xfrm flipH="1" flipV="1">
            <a:off x="4429080" y="5000760"/>
            <a:ext cx="285840" cy="78552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字方塊 23"/>
          <p:cNvSpPr/>
          <p:nvPr/>
        </p:nvSpPr>
        <p:spPr>
          <a:xfrm>
            <a:off x="4429080" y="607212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蘋果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向右箭號 24"/>
          <p:cNvSpPr/>
          <p:nvPr/>
        </p:nvSpPr>
        <p:spPr>
          <a:xfrm>
            <a:off x="2500200" y="4286160"/>
            <a:ext cx="13575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字方塊 25"/>
          <p:cNvSpPr/>
          <p:nvPr/>
        </p:nvSpPr>
        <p:spPr>
          <a:xfrm>
            <a:off x="214200" y="4286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</a:t>
            </a:r>
            <a:r>
              <a:rPr b="1" lang="zh-TW" sz="3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香蕉很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我們；你們；他們；大家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Rectangle 1" descr=""/>
          <p:cNvPicPr/>
          <p:nvPr/>
        </p:nvPicPr>
        <p:blipFill>
          <a:blip r:embed="rId1"/>
          <a:stretch/>
        </p:blipFill>
        <p:spPr>
          <a:xfrm>
            <a:off x="3060720" y="1981080"/>
            <a:ext cx="2444760" cy="1712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singing 090909.jpg"/>
          <p:cNvPicPr/>
          <p:nvPr/>
        </p:nvPicPr>
        <p:blipFill>
          <a:blip r:embed="rId2"/>
          <a:stretch/>
        </p:blipFill>
        <p:spPr>
          <a:xfrm rot="1432200">
            <a:off x="7524720" y="4473720"/>
            <a:ext cx="934920" cy="1725480"/>
          </a:xfrm>
          <a:prstGeom prst="rect">
            <a:avLst/>
          </a:prstGeom>
          <a:ln w="0">
            <a:noFill/>
          </a:ln>
        </p:spPr>
      </p:pic>
      <p:pic>
        <p:nvPicPr>
          <p:cNvPr id="110" name="Rectangle 4" descr=""/>
          <p:cNvPicPr/>
          <p:nvPr/>
        </p:nvPicPr>
        <p:blipFill>
          <a:blip r:embed="rId3"/>
          <a:stretch/>
        </p:blipFill>
        <p:spPr>
          <a:xfrm>
            <a:off x="6827760" y="2865600"/>
            <a:ext cx="2243160" cy="2041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writing 093009.jpg"/>
          <p:cNvPicPr/>
          <p:nvPr/>
        </p:nvPicPr>
        <p:blipFill>
          <a:blip r:embed="rId4"/>
          <a:stretch/>
        </p:blipFill>
        <p:spPr>
          <a:xfrm>
            <a:off x="914400" y="5072040"/>
            <a:ext cx="1228680" cy="857160"/>
          </a:xfrm>
          <a:prstGeom prst="rect">
            <a:avLst/>
          </a:prstGeom>
          <a:ln w="0">
            <a:noFill/>
          </a:ln>
        </p:spPr>
      </p:pic>
      <p:sp>
        <p:nvSpPr>
          <p:cNvPr id="112" name="文字方塊 8"/>
          <p:cNvSpPr/>
          <p:nvPr/>
        </p:nvSpPr>
        <p:spPr>
          <a:xfrm>
            <a:off x="500040" y="4357800"/>
            <a:ext cx="15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寫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" descr="dancing 090909.jpg"/>
          <p:cNvPicPr/>
          <p:nvPr/>
        </p:nvPicPr>
        <p:blipFill>
          <a:blip r:embed="rId5"/>
          <a:stretch/>
        </p:blipFill>
        <p:spPr>
          <a:xfrm>
            <a:off x="357120" y="2571840"/>
            <a:ext cx="1357560" cy="12859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357120" y="1643040"/>
            <a:ext cx="132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跳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cy3.skhcyss.edu.hk/~lib/reading%20pic/read%20pic1.bmp"/>
          <p:cNvPicPr/>
          <p:nvPr/>
        </p:nvPicPr>
        <p:blipFill>
          <a:blip r:embed="rId6"/>
          <a:stretch/>
        </p:blipFill>
        <p:spPr>
          <a:xfrm>
            <a:off x="6858000" y="1714680"/>
            <a:ext cx="15717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矩形 12"/>
          <p:cNvSpPr/>
          <p:nvPr/>
        </p:nvSpPr>
        <p:spPr>
          <a:xfrm>
            <a:off x="5643720" y="1285920"/>
            <a:ext cx="142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念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向右箭號 14"/>
          <p:cNvSpPr/>
          <p:nvPr/>
        </p:nvSpPr>
        <p:spPr>
          <a:xfrm rot="20820000">
            <a:off x="5253120" y="3368160"/>
            <a:ext cx="1428840" cy="5000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向右箭號 16"/>
          <p:cNvSpPr/>
          <p:nvPr/>
        </p:nvSpPr>
        <p:spPr>
          <a:xfrm flipH="1" rot="19560000">
            <a:off x="2224440" y="3590640"/>
            <a:ext cx="1500480" cy="49968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向右箭號 17"/>
          <p:cNvSpPr/>
          <p:nvPr/>
        </p:nvSpPr>
        <p:spPr>
          <a:xfrm rot="18900000">
            <a:off x="4984920" y="2269800"/>
            <a:ext cx="1143000" cy="428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向右箭號 18"/>
          <p:cNvSpPr/>
          <p:nvPr/>
        </p:nvSpPr>
        <p:spPr>
          <a:xfrm flipH="1" rot="1440000">
            <a:off x="1818360" y="2369880"/>
            <a:ext cx="1571400" cy="50004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http://pic.nipic.com/2007-06-13/2007613165150673_2.jpg"/>
          <p:cNvPicPr/>
          <p:nvPr/>
        </p:nvPicPr>
        <p:blipFill>
          <a:blip r:embed="rId7"/>
          <a:stretch/>
        </p:blipFill>
        <p:spPr>
          <a:xfrm>
            <a:off x="3500280" y="4929120"/>
            <a:ext cx="1500480" cy="1428840"/>
          </a:xfrm>
          <a:prstGeom prst="rect">
            <a:avLst/>
          </a:prstGeom>
          <a:ln w="0">
            <a:noFill/>
          </a:ln>
        </p:spPr>
      </p:pic>
      <p:sp>
        <p:nvSpPr>
          <p:cNvPr id="122" name="文字方塊 20"/>
          <p:cNvSpPr/>
          <p:nvPr/>
        </p:nvSpPr>
        <p:spPr>
          <a:xfrm>
            <a:off x="4929120" y="5500800"/>
            <a:ext cx="15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標楷體"/>
                <a:ea typeface="標楷體"/>
              </a:rPr>
              <a:t>吃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向下箭號 22"/>
          <p:cNvSpPr/>
          <p:nvPr/>
        </p:nvSpPr>
        <p:spPr>
          <a:xfrm>
            <a:off x="4143240" y="3786120"/>
            <a:ext cx="571680" cy="10717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9"/>
          <p:cNvSpPr/>
          <p:nvPr/>
        </p:nvSpPr>
        <p:spPr>
          <a:xfrm flipH="1">
            <a:off x="3499560" y="1785960"/>
            <a:ext cx="16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9:17:30Z</dcterms:created>
  <dc:creator>Maggie</dc:creator>
  <dc:description/>
  <dc:language>en-US</dc:language>
  <cp:lastModifiedBy>Monica</cp:lastModifiedBy>
  <dcterms:modified xsi:type="dcterms:W3CDTF">2010-03-05T09:39:46Z</dcterms:modified>
  <cp:revision>67</cp:revision>
  <dc:subject/>
  <dc:title>吃</dc:title>
</cp:coreProperties>
</file>